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BB23E-DAF8-4321-90D8-AD24831F0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9681C-E246-4894-B36F-97F8E946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AD9CF-84C7-4D0E-BDAF-9235D79D4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2E271-FC4B-44CA-96B5-4B68BCDC1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BDB8-15B8-42C6-B85A-742BC817B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5BB64-0AE5-40AF-B40C-A4D51BB2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483D-DCBC-4A39-A31B-3DD733A6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8A34-E1C6-4484-AF14-A9EF81E3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94E0-2F47-4BE5-A271-5F0CA687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E5DD-B668-4D8D-BC14-FA8247EA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5D22-C7E9-4656-87E1-27B4E4C8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0EBA5-7CF7-4CEA-9211-E3D67930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8C4F-AE52-41D9-B8A4-C4E67956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9E43-87F5-4CB1-8DFA-1932A55E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1FF2-5EDB-4FF6-88E2-25DBD522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23AD-9C2E-42D3-92CA-475386D76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7B45-6F12-4679-9D77-42E1A5B1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DA896-F5A7-462D-888B-2C06ED6D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A6874-44A9-4C1C-91F3-712F3ED8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2C482-4175-437D-8B7D-621998CE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5A00A-E47F-41B4-B759-0130F661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3A8AD-FB7C-4E67-A9B3-0C1AC5A0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3257C-BE2E-479D-9736-83E08E83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1AB02-5965-4193-AE84-6DFF814F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D6A4-E666-4A8A-93FC-B042A50D06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274D-A56E-4348-97F8-921F0DF090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 u="sng">
                <a:solidFill>
                  <a:srgbClr val="00007d"/>
                </a:solidFill>
                <a:uFillTx/>
                <a:latin typeface="Arial"/>
              </a:rPr>
              <a:t>Тема урока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743200" y="236232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Начните работу с нажатия кнопки Пус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486400" y="304920"/>
            <a:ext cx="3429000" cy="954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818800" y="4568760"/>
            <a:ext cx="3728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резентация к уро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о информатике и И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для 5-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800080"/>
                </a:solidFill>
                <a:uFillTx/>
                <a:latin typeface="Arial"/>
              </a:rPr>
              <a:t>Состав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учитель информатики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Пулова Светла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ГБОУ СОШ № 2031, г.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Практическая работа </a:t>
            </a:r>
            <a:br>
              <a:rPr sz="3200"/>
            </a:b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«Запуск стандартных программ из </a:t>
            </a:r>
            <a:br>
              <a:rPr sz="3200"/>
            </a:b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Главного меню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Запустите программу Блокн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Чтобы запустить стандартную програм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ведите указатель мыши на кнопку Пуск на Панели задач и щелкните левой кнопк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ведите указатель мыши к пункту Программы – откроется вложенное меню с перечнем програ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038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ведите указатель к пункту Стандартные – появится вновь вложенное меню с перечнем стандартных , часто используемых програ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йдите нужную программу Блокнот, и выберите ее щелчком левой кнопки мы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5791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ус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5791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86200" y="5791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Стандар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43600" y="5791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Блокн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5943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6019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5943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5943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147F1-C7A0-4071-9F05-163B62C35423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. Запустите стандартную программу Калькулятор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1143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1295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95480" y="114300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67080" y="1295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1143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Стандар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53080" y="1295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15200" y="11430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Блокн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6765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1000"/>
          </a:bodyPr>
          <a:p>
            <a:pPr marL="106200" indent="-106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3. Завершение работы с программ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вершить работу программы Калькуля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вершить работу программы Блокн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появлении окна сохранения документа, нажмите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90920" y="3124080"/>
            <a:ext cx="5181480" cy="247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88393-1640-40E6-AB99-75DD1BF4337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Итоги урока и Д/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2590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Какую тему рассматривали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Что нового вы узн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Чему научились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Что вам больше всего понравилось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/З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5 и определения выу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3276720" cy="238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B0E6E-B7C6-4644-912B-A5B8C1118C1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910120" y="3200400"/>
            <a:ext cx="3233880" cy="2809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Цель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знакомить с назначением и функциями Главного мен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воить запуск программ через Главное мен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47B57-3CCA-4C45-88E9-FD56E9FD0FB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19360" y="198072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тор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учение нового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реп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тоги урока и д/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354120" cy="43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5F99D-C032-4B22-8CD9-FD307BAEFB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4619520" cy="30672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1. Повтор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520" y="106632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Рабочий сто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находится на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Рабочем стол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находится на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панели зада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Мен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вы знаете о кнопке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Пус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C0AF1-E402-4229-9CEE-FF12C22FE0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2. Изучение нового материа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800600" y="2666880"/>
            <a:ext cx="3733920" cy="10400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нопка Пуск располагается на Панели задач в левом нижнем уг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3200400"/>
            <a:ext cx="44956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огие действия начинаются с нажатия кнопки Пус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943600" y="380988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7AEB8-BDF9-4160-9E70-B81C548319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46720" y="228600"/>
            <a:ext cx="3797280" cy="56055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4495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Щелкнув по кнопке Пуск откроется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Главное меню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2971800"/>
            <a:ext cx="3048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Главное мен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657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3886200"/>
            <a:ext cx="449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 этого меню можно вызвать различные программы. При помощи программ создаются документы: тексты, рисунки, табл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2CD5D-224E-4F04-A39C-F135884E07E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105520" y="0"/>
            <a:ext cx="3733560" cy="58672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449604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в пункте меню справа расположен значок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ит этот пункт является заголовком еще одного мен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057400" y="3048120"/>
            <a:ext cx="687240" cy="718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flipV="1">
            <a:off x="2971800" y="2514600"/>
            <a:ext cx="5562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3048120"/>
            <a:ext cx="34290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3124080"/>
            <a:ext cx="3962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3200400"/>
            <a:ext cx="4267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76C62-8218-4965-84CC-698D4340377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8077320" cy="44085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го содержимое появляется при выделении этого пункта. Такие меню называют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вложенны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скрытыми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590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Главное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1371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Вложенное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2895480"/>
            <a:ext cx="380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343040" y="1752480"/>
            <a:ext cx="2514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934320" y="1752480"/>
            <a:ext cx="3045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53280" y="18288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0A300-85DE-42C8-B7FE-2E5EC91BF63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4174920" cy="6095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-304920" y="159984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оме того, кнопка Пуск позволяет грамотно завершить работу на компьютере, выбрав команду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Завершение работ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2D67A-4FEE-4FA1-9DA4-E468E3D4AEF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</cp:lastModifiedBy>
  <dcterms:modified xsi:type="dcterms:W3CDTF">2012-04-13T07:39:0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